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0.png" ContentType="image/png"/>
  <Override PartName="/ppt/media/image35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6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C172-4CD1-4878-A334-2B44EBD68A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уууууу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7E4B-384C-497F-AD5E-C6B4F712A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B694-8B93-49EF-9CCA-9ABF24EB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2804-EAA8-49B1-8E32-701E7D04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B607-7AF8-4262-809A-2E5463B22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0C1B7-A826-40E0-AD4E-796E0394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76F91-4B34-4909-A870-900F94E1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AA26B-AD0D-4BAE-9F25-8DF45194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5BE04-0EF5-4609-901A-5AB1B2AA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AC591-0322-48E8-9E9E-3EABD337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6CAD9-90DD-463C-ABFA-71C638BA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28B8E-26F4-4267-971E-261BDF9C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E57E-D288-48F3-88C1-CE767D50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D06E9-B339-4550-B4CD-C44A9F1B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E9D37-B51A-4191-930E-578EDDAC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32D52-4436-4148-B401-D9DC0F9B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7849D-0EC3-4476-8DA5-BEF7D404D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54736-B448-4EEA-96FF-06C0C0636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2050E-D317-4A02-8AE9-48D71BB57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0635B-8843-409B-890B-FF904E9F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27C21-CBCA-439F-8F61-56CE02B5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C4C1B-C547-4C65-8442-655FC22F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33E84-2822-46F9-B3AF-E619CC1B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42F4-81F3-40A8-8582-EB93F443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87E3D-F959-408D-A24D-DB945DE6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7A5FD-70FB-42F7-8D2B-CA9A15CA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9BCC1-9BC8-41CD-ACBD-9A07A777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EE1EA-E510-4B07-94C4-6FBE408A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905B7-6C97-4FE3-B59C-21F1AB19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19ACB-D08B-4F2A-A39A-5A9C9E3AF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F6A56-D0AE-4DE6-9381-985067500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8AEAE-55C8-4102-9D01-DA63D6000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65628-21C0-4BF1-A1C5-9AAFB020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63479-9C96-45BA-960B-924F864F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5410-F654-4CEB-8684-212B9FC3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4CE31-B94F-45ED-877B-60D8E7AE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39D0B-231D-4011-B8EB-3EF94E31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66C4E-CCCA-4CD7-9883-6BC03450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B25C0-6050-488F-BF65-F282CACC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75BC0-9780-4526-BE6F-0BF49E6F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04E88-AC06-4C27-A77A-951AD348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F2D81-5B34-47D7-855F-0D17B5CC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A3BD9-AD01-4CFF-9193-4CF1617B9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94F73-BA85-45FC-AB0A-6306B5CD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FA91-C802-4B59-9084-7CE2490D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929B-1186-436A-9D90-C0DE6049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01E9-692A-4529-BD0E-2C52DBB0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BC1A-C7A7-4281-B09B-64A38D85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3384-BB43-44BE-BA24-1CC1C8F6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D4E7-A55F-4BC6-B11D-B75F07F95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7DF8-B8EE-4839-BE32-28E7DB242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23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27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52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3405-DED7-45BC-A89D-7658E24F2E0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01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05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30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C9DD-EEBB-431F-8821-CC08DF32682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5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7.jpeg"/><Relationship Id="rId3" Type="http://schemas.openxmlformats.org/officeDocument/2006/relationships/image" Target="../media/image37.jpeg"/><Relationship Id="rId4" Type="http://schemas.openxmlformats.org/officeDocument/2006/relationships/image" Target="../media/image37.jpeg"/><Relationship Id="rId5" Type="http://schemas.openxmlformats.org/officeDocument/2006/relationships/image" Target="../media/image37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556000" y="3357720"/>
            <a:ext cx="3528720" cy="23828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r>
              <a:rPr b="0" lang="en-US" sz="8000" spc="-1" strike="noStrike">
                <a:solidFill>
                  <a:srgbClr val="e3e3ff"/>
                </a:solidFill>
                <a:latin typeface="Arial"/>
              </a:rPr>
              <a:t>Формы земной поверхности</a:t>
            </a:r>
            <a:endParaRPr b="0" lang="en-US" sz="8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4440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4440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55640" y="6165720"/>
            <a:ext cx="7416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скрайняя равнина Австрал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97800" cy="5688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468360" y="6093000"/>
            <a:ext cx="8351640" cy="67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ть равнины на которых возвышаются холмы и гряды, высота  которых более 500 метров над уровнем моря. Их называют</a:t>
            </a:r>
            <a:r>
              <a:rPr b="0" lang="en-US" sz="1800" spc="-1" strike="noStrike">
                <a:solidFill>
                  <a:srgbClr val="003b76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66cc"/>
                </a:solidFill>
                <a:uFillTx/>
                <a:latin typeface="Arial"/>
              </a:rPr>
              <a:t>плоскогорь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50920" y="236520"/>
            <a:ext cx="8642160" cy="63849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468360" y="6021360"/>
            <a:ext cx="8207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ликая Китайская равн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7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11280" y="333360"/>
            <a:ext cx="7777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фриканские равн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" descr=""/>
          <p:cNvPicPr/>
          <p:nvPr/>
        </p:nvPicPr>
        <p:blipFill>
          <a:blip r:embed="rId1"/>
          <a:stretch/>
        </p:blipFill>
        <p:spPr>
          <a:xfrm>
            <a:off x="1116000" y="0"/>
            <a:ext cx="7201080" cy="6858000"/>
          </a:xfrm>
          <a:prstGeom prst="rect">
            <a:avLst/>
          </a:prstGeom>
          <a:ln w="38160">
            <a:solidFill>
              <a:srgbClr val="ffffff"/>
            </a:solidFill>
            <a:round/>
          </a:ln>
        </p:spPr>
      </p:pic>
      <p:sp>
        <p:nvSpPr>
          <p:cNvPr id="328" name=""/>
          <p:cNvSpPr/>
          <p:nvPr/>
        </p:nvSpPr>
        <p:spPr>
          <a:xfrm>
            <a:off x="3419640" y="1413000"/>
            <a:ext cx="3159000" cy="1106280"/>
          </a:xfrm>
          <a:custGeom>
            <a:avLst/>
            <a:gdLst/>
            <a:ahLst/>
            <a:rect l="l" t="t" r="r" b="b"/>
            <a:pathLst>
              <a:path w="8772" h="3077">
                <a:moveTo>
                  <a:pt x="9505" y="6906"/>
                </a:moveTo>
                <a:cubicBezTo>
                  <a:pt x="9525" y="6887"/>
                  <a:pt x="9560" y="6847"/>
                  <a:pt x="9585" y="6826"/>
                </a:cubicBezTo>
                <a:cubicBezTo>
                  <a:pt x="9598" y="6815"/>
                  <a:pt x="9632" y="6798"/>
                  <a:pt x="9644" y="6787"/>
                </a:cubicBezTo>
                <a:cubicBezTo>
                  <a:pt x="9660" y="6763"/>
                  <a:pt x="9708" y="6733"/>
                  <a:pt x="9723" y="6707"/>
                </a:cubicBezTo>
                <a:cubicBezTo>
                  <a:pt x="9723" y="6694"/>
                  <a:pt x="9723" y="6681"/>
                  <a:pt x="9723" y="6668"/>
                </a:cubicBezTo>
                <a:cubicBezTo>
                  <a:pt x="9753" y="6638"/>
                  <a:pt x="9791" y="6602"/>
                  <a:pt x="9823" y="6568"/>
                </a:cubicBezTo>
                <a:cubicBezTo>
                  <a:pt x="9842" y="6548"/>
                  <a:pt x="9901" y="6534"/>
                  <a:pt x="9922" y="6509"/>
                </a:cubicBezTo>
                <a:cubicBezTo>
                  <a:pt x="9922" y="6496"/>
                  <a:pt x="9922" y="6482"/>
                  <a:pt x="9922" y="6469"/>
                </a:cubicBezTo>
                <a:cubicBezTo>
                  <a:pt x="9971" y="6440"/>
                  <a:pt x="9971" y="6461"/>
                  <a:pt x="10021" y="6410"/>
                </a:cubicBezTo>
                <a:cubicBezTo>
                  <a:pt x="10036" y="6395"/>
                  <a:pt x="10088" y="6383"/>
                  <a:pt x="10100" y="6370"/>
                </a:cubicBezTo>
                <a:cubicBezTo>
                  <a:pt x="10100" y="6357"/>
                  <a:pt x="10100" y="6343"/>
                  <a:pt x="10100" y="6330"/>
                </a:cubicBezTo>
                <a:cubicBezTo>
                  <a:pt x="10125" y="6310"/>
                  <a:pt x="10172" y="6316"/>
                  <a:pt x="10200" y="6290"/>
                </a:cubicBezTo>
                <a:cubicBezTo>
                  <a:pt x="10237" y="6256"/>
                  <a:pt x="10245" y="6222"/>
                  <a:pt x="10279" y="6191"/>
                </a:cubicBezTo>
                <a:cubicBezTo>
                  <a:pt x="10305" y="6167"/>
                  <a:pt x="10335" y="6150"/>
                  <a:pt x="10358" y="6132"/>
                </a:cubicBezTo>
                <a:cubicBezTo>
                  <a:pt x="10393" y="6104"/>
                  <a:pt x="10443" y="6082"/>
                  <a:pt x="10478" y="6052"/>
                </a:cubicBezTo>
                <a:cubicBezTo>
                  <a:pt x="10514" y="6021"/>
                  <a:pt x="10550" y="5976"/>
                  <a:pt x="10577" y="5953"/>
                </a:cubicBezTo>
                <a:cubicBezTo>
                  <a:pt x="10610" y="5925"/>
                  <a:pt x="10658" y="5911"/>
                  <a:pt x="10676" y="5894"/>
                </a:cubicBezTo>
                <a:cubicBezTo>
                  <a:pt x="10711" y="5861"/>
                  <a:pt x="10721" y="5821"/>
                  <a:pt x="10755" y="5794"/>
                </a:cubicBezTo>
                <a:cubicBezTo>
                  <a:pt x="10788" y="5767"/>
                  <a:pt x="10822" y="5726"/>
                  <a:pt x="10855" y="5695"/>
                </a:cubicBezTo>
                <a:cubicBezTo>
                  <a:pt x="10875" y="5676"/>
                  <a:pt x="10925" y="5640"/>
                  <a:pt x="10954" y="5616"/>
                </a:cubicBezTo>
                <a:cubicBezTo>
                  <a:pt x="10983" y="5592"/>
                  <a:pt x="11016" y="5583"/>
                  <a:pt x="11053" y="5556"/>
                </a:cubicBezTo>
                <a:cubicBezTo>
                  <a:pt x="11088" y="5531"/>
                  <a:pt x="11102" y="5494"/>
                  <a:pt x="11132" y="5477"/>
                </a:cubicBezTo>
                <a:cubicBezTo>
                  <a:pt x="11145" y="5477"/>
                  <a:pt x="11159" y="5477"/>
                  <a:pt x="11172" y="5477"/>
                </a:cubicBezTo>
                <a:cubicBezTo>
                  <a:pt x="11195" y="5452"/>
                  <a:pt x="11219" y="5428"/>
                  <a:pt x="11251" y="5398"/>
                </a:cubicBezTo>
                <a:cubicBezTo>
                  <a:pt x="11272" y="5378"/>
                  <a:pt x="11277" y="5321"/>
                  <a:pt x="11311" y="5298"/>
                </a:cubicBezTo>
                <a:cubicBezTo>
                  <a:pt x="11348" y="5273"/>
                  <a:pt x="11416" y="5259"/>
                  <a:pt x="11450" y="5239"/>
                </a:cubicBezTo>
                <a:cubicBezTo>
                  <a:pt x="11461" y="5195"/>
                  <a:pt x="11465" y="5192"/>
                  <a:pt x="11490" y="5159"/>
                </a:cubicBezTo>
                <a:cubicBezTo>
                  <a:pt x="11524" y="5134"/>
                  <a:pt x="11525" y="5131"/>
                  <a:pt x="11569" y="5120"/>
                </a:cubicBezTo>
                <a:cubicBezTo>
                  <a:pt x="11592" y="5103"/>
                  <a:pt x="11586" y="5082"/>
                  <a:pt x="11628" y="5060"/>
                </a:cubicBezTo>
                <a:cubicBezTo>
                  <a:pt x="11666" y="5040"/>
                  <a:pt x="11714" y="5020"/>
                  <a:pt x="11748" y="5001"/>
                </a:cubicBezTo>
                <a:cubicBezTo>
                  <a:pt x="11774" y="4978"/>
                  <a:pt x="11807" y="4951"/>
                  <a:pt x="11847" y="4921"/>
                </a:cubicBezTo>
                <a:cubicBezTo>
                  <a:pt x="11869" y="4905"/>
                  <a:pt x="11866" y="4884"/>
                  <a:pt x="11906" y="4862"/>
                </a:cubicBezTo>
                <a:cubicBezTo>
                  <a:pt x="11944" y="4841"/>
                  <a:pt x="11991" y="4821"/>
                  <a:pt x="12025" y="4802"/>
                </a:cubicBezTo>
                <a:cubicBezTo>
                  <a:pt x="12057" y="4770"/>
                  <a:pt x="12022" y="4761"/>
                  <a:pt x="12085" y="4743"/>
                </a:cubicBezTo>
                <a:cubicBezTo>
                  <a:pt x="12098" y="4743"/>
                  <a:pt x="12112" y="4743"/>
                  <a:pt x="12125" y="4743"/>
                </a:cubicBezTo>
                <a:cubicBezTo>
                  <a:pt x="12143" y="4736"/>
                  <a:pt x="12187" y="4693"/>
                  <a:pt x="12244" y="4683"/>
                </a:cubicBezTo>
                <a:cubicBezTo>
                  <a:pt x="12293" y="4675"/>
                  <a:pt x="12375" y="4680"/>
                  <a:pt x="12422" y="4663"/>
                </a:cubicBezTo>
                <a:cubicBezTo>
                  <a:pt x="12460" y="4649"/>
                  <a:pt x="12466" y="4615"/>
                  <a:pt x="12502" y="4604"/>
                </a:cubicBezTo>
                <a:cubicBezTo>
                  <a:pt x="12543" y="4591"/>
                  <a:pt x="12581" y="4597"/>
                  <a:pt x="12621" y="4584"/>
                </a:cubicBezTo>
                <a:cubicBezTo>
                  <a:pt x="12650" y="4574"/>
                  <a:pt x="12688" y="4555"/>
                  <a:pt x="12720" y="4544"/>
                </a:cubicBezTo>
                <a:cubicBezTo>
                  <a:pt x="12754" y="4532"/>
                  <a:pt x="12782" y="4533"/>
                  <a:pt x="12819" y="4524"/>
                </a:cubicBezTo>
                <a:cubicBezTo>
                  <a:pt x="12880" y="4509"/>
                  <a:pt x="12915" y="4496"/>
                  <a:pt x="12978" y="4485"/>
                </a:cubicBezTo>
                <a:cubicBezTo>
                  <a:pt x="13098" y="4464"/>
                  <a:pt x="13243" y="4480"/>
                  <a:pt x="13355" y="4445"/>
                </a:cubicBezTo>
                <a:cubicBezTo>
                  <a:pt x="13403" y="4430"/>
                  <a:pt x="13427" y="4403"/>
                  <a:pt x="13474" y="4385"/>
                </a:cubicBezTo>
                <a:cubicBezTo>
                  <a:pt x="13507" y="4372"/>
                  <a:pt x="13540" y="4343"/>
                  <a:pt x="13573" y="4326"/>
                </a:cubicBezTo>
                <a:cubicBezTo>
                  <a:pt x="13608" y="4308"/>
                  <a:pt x="13636" y="4283"/>
                  <a:pt x="13672" y="4266"/>
                </a:cubicBezTo>
                <a:cubicBezTo>
                  <a:pt x="13714" y="4246"/>
                  <a:pt x="13768" y="4223"/>
                  <a:pt x="13811" y="4207"/>
                </a:cubicBezTo>
                <a:cubicBezTo>
                  <a:pt x="13842" y="4196"/>
                  <a:pt x="13935" y="4170"/>
                  <a:pt x="13950" y="4167"/>
                </a:cubicBezTo>
                <a:cubicBezTo>
                  <a:pt x="14043" y="4151"/>
                  <a:pt x="14126" y="4146"/>
                  <a:pt x="14208" y="4128"/>
                </a:cubicBezTo>
                <a:cubicBezTo>
                  <a:pt x="14256" y="4117"/>
                  <a:pt x="14302" y="4114"/>
                  <a:pt x="14347" y="4108"/>
                </a:cubicBezTo>
                <a:cubicBezTo>
                  <a:pt x="14379" y="4104"/>
                  <a:pt x="14411" y="4096"/>
                  <a:pt x="14446" y="4088"/>
                </a:cubicBezTo>
                <a:cubicBezTo>
                  <a:pt x="14510" y="4074"/>
                  <a:pt x="14563" y="4062"/>
                  <a:pt x="14625" y="4048"/>
                </a:cubicBezTo>
                <a:cubicBezTo>
                  <a:pt x="14684" y="4035"/>
                  <a:pt x="14747" y="4017"/>
                  <a:pt x="14803" y="4008"/>
                </a:cubicBezTo>
                <a:cubicBezTo>
                  <a:pt x="14883" y="3995"/>
                  <a:pt x="14980" y="3985"/>
                  <a:pt x="15061" y="3969"/>
                </a:cubicBezTo>
                <a:cubicBezTo>
                  <a:pt x="15098" y="3962"/>
                  <a:pt x="15131" y="3937"/>
                  <a:pt x="15161" y="3929"/>
                </a:cubicBezTo>
                <a:cubicBezTo>
                  <a:pt x="15223" y="3914"/>
                  <a:pt x="15282" y="3907"/>
                  <a:pt x="15339" y="3889"/>
                </a:cubicBezTo>
                <a:cubicBezTo>
                  <a:pt x="15386" y="3874"/>
                  <a:pt x="15492" y="3834"/>
                  <a:pt x="15518" y="3830"/>
                </a:cubicBezTo>
                <a:cubicBezTo>
                  <a:pt x="15959" y="3770"/>
                  <a:pt x="16531" y="3803"/>
                  <a:pt x="16947" y="3870"/>
                </a:cubicBezTo>
                <a:cubicBezTo>
                  <a:pt x="17024" y="3882"/>
                  <a:pt x="17107" y="3904"/>
                  <a:pt x="17185" y="3909"/>
                </a:cubicBezTo>
                <a:cubicBezTo>
                  <a:pt x="17354" y="3919"/>
                  <a:pt x="17510" y="3919"/>
                  <a:pt x="17661" y="3949"/>
                </a:cubicBezTo>
                <a:cubicBezTo>
                  <a:pt x="17704" y="3957"/>
                  <a:pt x="17726" y="3980"/>
                  <a:pt x="17760" y="3989"/>
                </a:cubicBezTo>
                <a:cubicBezTo>
                  <a:pt x="17821" y="4004"/>
                  <a:pt x="17881" y="4013"/>
                  <a:pt x="17939" y="4028"/>
                </a:cubicBezTo>
                <a:cubicBezTo>
                  <a:pt x="17992" y="4041"/>
                  <a:pt x="18040" y="4060"/>
                  <a:pt x="18078" y="4068"/>
                </a:cubicBezTo>
                <a:cubicBezTo>
                  <a:pt x="18085" y="4068"/>
                  <a:pt x="18091" y="4068"/>
                  <a:pt x="18098" y="4068"/>
                </a:cubicBezTo>
                <a:cubicBezTo>
                  <a:pt x="18121" y="4083"/>
                  <a:pt x="18137" y="4092"/>
                  <a:pt x="18177" y="4108"/>
                </a:cubicBezTo>
                <a:cubicBezTo>
                  <a:pt x="18190" y="4113"/>
                  <a:pt x="18214" y="4142"/>
                  <a:pt x="18236" y="4147"/>
                </a:cubicBezTo>
                <a:cubicBezTo>
                  <a:pt x="18256" y="4147"/>
                  <a:pt x="18263" y="4147"/>
                  <a:pt x="18276" y="414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900000" y="6021360"/>
            <a:ext cx="7775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зово – Кубанская равн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179280" y="190440"/>
            <a:ext cx="8713800" cy="57708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468360" y="6093000"/>
            <a:ext cx="84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5280" y="602136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79280" y="5877000"/>
            <a:ext cx="87138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лм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небольшая возвышенность, имеющая округлую вершину и отлогие или крутые скло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63324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826920" y="476280"/>
            <a:ext cx="784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лмистая мест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        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лубокая вытянутая промоина с         крутыми склонами, размытая дождевыми и снеговыми водами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250920" y="2028960"/>
            <a:ext cx="8642160" cy="4459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39" name=""/>
          <p:cNvSpPr txBox="1"/>
          <p:nvPr/>
        </p:nvSpPr>
        <p:spPr>
          <a:xfrm>
            <a:off x="324000" y="260280"/>
            <a:ext cx="257652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ffff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враг - </a:t>
            </a:r>
            <a:endParaRPr b="0" lang="en-US" sz="1800" spc="1" strike="noStrike">
              <a:ln w="31680">
                <a:solidFill>
                  <a:srgbClr val="ffff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5840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>
    <p:strips dir="ru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9920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3348000" y="189000"/>
            <a:ext cx="2324160" cy="86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ОРЫ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95280" y="5877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то участки земной поверхности, сильно возвышающиеся над окружающей местность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280360" cy="55054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95280" y="5734080"/>
            <a:ext cx="8280360" cy="73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ы различаются по высоте и форме. Перед вам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сок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ры – горы, имеющие высоту более 2000 тысяч метров над уровнем мор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56656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395280" y="6021360"/>
            <a:ext cx="8497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д вами средневысотные горы, имеющие высоту от 800 до 2000 метров над уровнем мор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95280" y="6021360"/>
            <a:ext cx="8497800" cy="73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д вам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евысот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ы, имеющие высоту от 800 до 2000 метров над уровнем мор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55612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68360" y="6021360"/>
            <a:ext cx="8353440" cy="73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д вам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зк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горы, имеющие высоту не более 800 метров над уровнем мор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5435640" y="260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084720" y="549360"/>
            <a:ext cx="2095560" cy="78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ОРЫ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539640" y="476280"/>
            <a:ext cx="295128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ОЛМЫ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3218040" cy="33051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5651640" y="1773360"/>
            <a:ext cx="3217680" cy="33051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3564000" y="1844640"/>
            <a:ext cx="1871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РШ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1258560" y="2060640"/>
            <a:ext cx="2376360" cy="136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92720" y="2060640"/>
            <a:ext cx="273528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564000" y="2565360"/>
            <a:ext cx="1871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КЛ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124000" y="2781360"/>
            <a:ext cx="165600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19640" y="2852640"/>
            <a:ext cx="1800360" cy="505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564000" y="3357720"/>
            <a:ext cx="1871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ОШ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987280" y="3716280"/>
            <a:ext cx="647640" cy="100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364000" y="3716280"/>
            <a:ext cx="79236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633888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В чем  различие  холмов и гор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0920" y="5445000"/>
            <a:ext cx="3168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сота до 200 мет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651640" y="5445000"/>
            <a:ext cx="3168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сота более 200 мет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72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826920" y="476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ершины Ур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496360" cy="6375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70" name=""/>
          <p:cNvSpPr/>
          <p:nvPr/>
        </p:nvSpPr>
        <p:spPr>
          <a:xfrm>
            <a:off x="1042920" y="587700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ршины Ур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01040" cy="6375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72" name=""/>
          <p:cNvSpPr/>
          <p:nvPr/>
        </p:nvSpPr>
        <p:spPr>
          <a:xfrm>
            <a:off x="971640" y="333360"/>
            <a:ext cx="70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еверный Ур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" descr=""/>
          <p:cNvPicPr/>
          <p:nvPr/>
        </p:nvPicPr>
        <p:blipFill>
          <a:blip r:embed="rId1"/>
          <a:stretch/>
        </p:blipFill>
        <p:spPr>
          <a:xfrm>
            <a:off x="1116000" y="0"/>
            <a:ext cx="7201080" cy="6858000"/>
          </a:xfrm>
          <a:prstGeom prst="rect">
            <a:avLst/>
          </a:prstGeom>
          <a:ln w="38160">
            <a:solidFill>
              <a:srgbClr val="ffffff"/>
            </a:solidFill>
            <a:round/>
          </a:ln>
        </p:spPr>
      </p:pic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539640" y="260280"/>
            <a:ext cx="7920000" cy="21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81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УБАНЬ ГОРНАЯ</a:t>
            </a:r>
            <a:endParaRPr b="1" lang="en-US" sz="6000" spc="1" strike="noStrike">
              <a:ln w="3816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1908000" y="2565360"/>
            <a:ext cx="5473800" cy="4116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713800" cy="5789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88" name=""/>
          <p:cNvSpPr txBox="1"/>
          <p:nvPr/>
        </p:nvSpPr>
        <p:spPr>
          <a:xfrm>
            <a:off x="179280" y="260280"/>
            <a:ext cx="8785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риентирование по местным признакам</a:t>
            </a:r>
            <a:endParaRPr b="0" lang="en-US" sz="1800" spc="1" strike="noStrike">
              <a:ln w="9360">
                <a:solidFill>
                  <a:srgbClr val="33cccc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539640" y="260280"/>
            <a:ext cx="7921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5560">
                  <a:solidFill>
                    <a:srgbClr val="ffffff"/>
                  </a:solidFill>
                  <a:miter/>
                </a:ln>
                <a:blipFill rotWithShape="0">
                  <a:blip r:embed="rId1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Кавказские горы</a:t>
            </a:r>
            <a:endParaRPr b="1" lang="en-US" sz="4800" spc="1" strike="noStrike">
              <a:ln w="25560">
                <a:solidFill>
                  <a:srgbClr val="ffffff"/>
                </a:solidFill>
                <a:miter/>
              </a:ln>
              <a:blipFill rotWithShape="0">
                <a:blip r:embed="rId2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179280" y="1413000"/>
            <a:ext cx="4516560" cy="4543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378" name="" descr=""/>
          <p:cNvPicPr/>
          <p:nvPr/>
        </p:nvPicPr>
        <p:blipFill>
          <a:blip r:embed="rId4"/>
          <a:stretch/>
        </p:blipFill>
        <p:spPr>
          <a:xfrm>
            <a:off x="4284720" y="2133720"/>
            <a:ext cx="4599000" cy="4533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684360" y="260280"/>
            <a:ext cx="7921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5560">
                  <a:solidFill>
                    <a:srgbClr val="ffffff"/>
                  </a:solidFill>
                  <a:miter/>
                </a:ln>
                <a:blipFill rotWithShape="0">
                  <a:blip r:embed="rId1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Кавказские горы</a:t>
            </a:r>
            <a:endParaRPr b="1" lang="en-US" sz="4800" spc="1" strike="noStrike">
              <a:ln w="25560">
                <a:solidFill>
                  <a:srgbClr val="ffffff"/>
                </a:solidFill>
                <a:miter/>
              </a:ln>
              <a:blipFill rotWithShape="0">
                <a:blip r:embed="rId2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826920" y="1386000"/>
            <a:ext cx="7502760" cy="5067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>
    <p:strips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684360" y="260280"/>
            <a:ext cx="7921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5560">
                  <a:solidFill>
                    <a:srgbClr val="ffffff"/>
                  </a:solidFill>
                  <a:miter/>
                </a:ln>
                <a:blipFill rotWithShape="0">
                  <a:blip r:embed="rId1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Кавказские горы</a:t>
            </a:r>
            <a:endParaRPr b="1" lang="en-US" sz="4800" spc="1" strike="noStrike">
              <a:ln w="25560">
                <a:solidFill>
                  <a:srgbClr val="ffffff"/>
                </a:solidFill>
                <a:miter/>
              </a:ln>
              <a:blipFill rotWithShape="0">
                <a:blip r:embed="rId2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2050920" y="1268280"/>
            <a:ext cx="5240520" cy="5335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>
    <p:strips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50280" cy="6338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84" name=""/>
          <p:cNvSpPr/>
          <p:nvPr/>
        </p:nvSpPr>
        <p:spPr>
          <a:xfrm>
            <a:off x="755640" y="54936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вк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300720" y="404640"/>
            <a:ext cx="230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1280" y="4221000"/>
            <a:ext cx="273672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Приветствую тебя Кавказ седой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Твоим горам я путник не чужо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И долго мне мечталось с этих по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Все небо юга да утесы гор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Прекрасен ты, суровый кра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свободы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И вы, престолы вечные природ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М. Лермонтов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684360" y="512640"/>
            <a:ext cx="7920000" cy="594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88" name=""/>
          <p:cNvSpPr/>
          <p:nvPr/>
        </p:nvSpPr>
        <p:spPr>
          <a:xfrm>
            <a:off x="1116000" y="645336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эльбрусь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416720" cy="5562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90" name=""/>
          <p:cNvSpPr/>
          <p:nvPr/>
        </p:nvSpPr>
        <p:spPr>
          <a:xfrm>
            <a:off x="1403280" y="6237360"/>
            <a:ext cx="58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Эльбру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684360" y="512640"/>
            <a:ext cx="7775280" cy="5832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92" name=""/>
          <p:cNvSpPr/>
          <p:nvPr/>
        </p:nvSpPr>
        <p:spPr>
          <a:xfrm>
            <a:off x="1116000" y="6381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Эльбру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96000" y="549360"/>
            <a:ext cx="259236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В венце блистая ледяном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Эльбрус огромный, величав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Белел на небе голубом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А.С. Пушк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0" y="907920"/>
            <a:ext cx="8893080" cy="48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81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Impact"/>
              </a:rPr>
              <a:t>Кавказский </a:t>
            </a:r>
            <a:endParaRPr b="1" lang="en-US" sz="6000" spc="1" strike="noStrike">
              <a:ln w="3816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816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Impact"/>
              </a:rPr>
              <a:t>государственный</a:t>
            </a:r>
            <a:endParaRPr b="1" lang="en-US" sz="6000" spc="1" strike="noStrike">
              <a:ln w="3816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8160">
                  <a:solidFill>
                    <a:srgbClr val="ffffff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Impact"/>
              </a:rPr>
              <a:t>заповедник</a:t>
            </a:r>
            <a:endParaRPr b="1" lang="en-US" sz="6000" spc="1" strike="noStrike">
              <a:ln w="38160">
                <a:solidFill>
                  <a:srgbClr val="ffffff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572000" y="2660760"/>
            <a:ext cx="4392720" cy="29160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4006800" cy="403236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291" name=""/>
          <p:cNvSpPr/>
          <p:nvPr/>
        </p:nvSpPr>
        <p:spPr>
          <a:xfrm>
            <a:off x="324000" y="47628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Го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32360" y="1844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Равни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>
    <p:strips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>
    <p:strips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>
    <p:strips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>
    <p:strips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>
    <p:strips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>
    <p:strips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5435640" y="260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084720" y="549360"/>
            <a:ext cx="2095560" cy="78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ОРЫ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39640" y="476280"/>
            <a:ext cx="295128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ОЛМЫ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3218040" cy="33051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5651640" y="1773360"/>
            <a:ext cx="3217680" cy="33051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3564000" y="1844640"/>
            <a:ext cx="1871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РШ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1258560" y="2060640"/>
            <a:ext cx="2376360" cy="136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292720" y="2060640"/>
            <a:ext cx="273528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64000" y="2565360"/>
            <a:ext cx="1871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КЛ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124000" y="2781360"/>
            <a:ext cx="165600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219640" y="2852640"/>
            <a:ext cx="1800360" cy="505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564000" y="3357720"/>
            <a:ext cx="1871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ОШ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2987280" y="3716280"/>
            <a:ext cx="647640" cy="100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364000" y="3716280"/>
            <a:ext cx="79236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e4c"/>
            </a:gs>
            <a:gs pos="100000">
              <a:srgbClr val="0023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1116000" y="549360"/>
          <a:ext cx="5977080" cy="5576760"/>
        </p:xfrm>
        <a:graphic>
          <a:graphicData uri="http://schemas.openxmlformats.org/drawingml/2006/table">
            <a:tbl>
              <a:tblPr/>
              <a:tblGrid>
                <a:gridCol w="1087560"/>
                <a:gridCol w="542880"/>
                <a:gridCol w="542880"/>
                <a:gridCol w="542880"/>
                <a:gridCol w="544680"/>
                <a:gridCol w="542880"/>
                <a:gridCol w="542880"/>
                <a:gridCol w="542880"/>
                <a:gridCol w="544680"/>
                <a:gridCol w="542880"/>
              </a:tblGrid>
              <a:tr h="368280">
                <a:tc rowSpan="11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 row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0" name=""/>
          <p:cNvSpPr/>
          <p:nvPr/>
        </p:nvSpPr>
        <p:spPr>
          <a:xfrm>
            <a:off x="1835280" y="3500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843280" y="3068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50072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916360" y="1916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932360" y="549360"/>
            <a:ext cx="3274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РОССВОРД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348000" y="9079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348000" y="14842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348000" y="1989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348000" y="2492280"/>
            <a:ext cx="43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76720" y="24922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851280" y="1989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198900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508720" y="198900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012000" y="198900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588000" y="1989000"/>
            <a:ext cx="5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427640" y="1989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003640" y="1989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508720" y="1989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012000" y="1989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588000" y="1989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427640" y="2565360"/>
            <a:ext cx="43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427640" y="2492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427640" y="2997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427640" y="3573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427640" y="4076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427640" y="4581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27640" y="5084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195640" y="3573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771640" y="3573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348000" y="3573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851280" y="3573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003640" y="3573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508720" y="3573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771640" y="4076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771640" y="4581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771640" y="5084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771640" y="5661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250920" y="260280"/>
            <a:ext cx="388944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вере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24164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826920" y="404640"/>
            <a:ext cx="8137800" cy="1044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79280" y="2708280"/>
            <a:ext cx="367200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ХОЛ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859280" y="2708280"/>
            <a:ext cx="367200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ОВРАГ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2124000" y="1628640"/>
            <a:ext cx="2232000" cy="936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356000" y="1628640"/>
            <a:ext cx="2087640" cy="1008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79280" y="3716280"/>
            <a:ext cx="3529080" cy="295272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sp>
        <p:nvSpPr>
          <p:cNvPr id="300" name=""/>
          <p:cNvSpPr/>
          <p:nvPr/>
        </p:nvSpPr>
        <p:spPr>
          <a:xfrm>
            <a:off x="5219640" y="47628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ОВНЫЕ ИЛИ ПОЧТИ РОВНЫЕ УЧАСТКИ ЗЕМНОЙ ПОВЕРХ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187280" y="476280"/>
            <a:ext cx="381960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ВНИНА -</a:t>
            </a:r>
            <a:endParaRPr b="1" i="1" lang="en-US" sz="6000" spc="1" strike="noStrike">
              <a:ln w="25560">
                <a:solidFill>
                  <a:srgbClr val="ffffff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4716360" y="3716280"/>
            <a:ext cx="3889440" cy="29480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p:transition>
    <p:strips dir="r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826920" y="404640"/>
            <a:ext cx="8137800" cy="1044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79280" y="2708280"/>
            <a:ext cx="367200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ПЛОСК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859280" y="2708280"/>
            <a:ext cx="367200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ХОЛМИСТ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2124000" y="1628640"/>
            <a:ext cx="2232000" cy="936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356000" y="1628640"/>
            <a:ext cx="2087640" cy="1008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219640" y="47628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ОВНЫЕ ИЛИ ПОЧТИ РОВНЫЕ УЧАСТКИ ЗЕМНОЙ ПОВЕРХ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187280" y="476280"/>
            <a:ext cx="381960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ВНИНА -</a:t>
            </a:r>
            <a:endParaRPr b="1" i="1" lang="en-US" sz="6000" spc="1" strike="noStrike">
              <a:ln w="25560">
                <a:solidFill>
                  <a:srgbClr val="ffffff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4788000" y="3645000"/>
            <a:ext cx="3887640" cy="28731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250920" y="3645000"/>
            <a:ext cx="3744720" cy="2836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>
    <p:strips dir="r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5740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13" name=""/>
          <p:cNvSpPr/>
          <p:nvPr/>
        </p:nvSpPr>
        <p:spPr>
          <a:xfrm>
            <a:off x="179280" y="6093000"/>
            <a:ext cx="864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79280" y="5661000"/>
            <a:ext cx="8713800" cy="105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ее половины площади России занимают равнины различной высоты. Крупнейшими равнинами являются:  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Восточно-Европейск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Западно-Сибирск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и        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Среднесибирское плоскогорь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33308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539640" y="6021360"/>
            <a:ext cx="82090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416"/>
                </a:solidFill>
                <a:latin typeface="Arial"/>
              </a:rPr>
              <a:t>Восточно-Европейская равн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19:30:45Z</dcterms:created>
  <dc:creator>USER</dc:creator>
  <dc:description/>
  <dc:language>en-US</dc:language>
  <cp:lastModifiedBy>Марина</cp:lastModifiedBy>
  <dcterms:modified xsi:type="dcterms:W3CDTF">2007-12-28T10:34:54Z</dcterms:modified>
  <cp:revision>34</cp:revision>
  <dc:subject/>
  <dc:title>Слайд 1</dc:title>
</cp:coreProperties>
</file>